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027-B3AA-4DF6-B4A3-0A53426A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F5B6-8C95-4DDB-B7C1-88CF8438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F17E-3E01-4D1E-B2C0-4C2130F0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0D7-DD55-48CB-9197-734CA34F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AA3E-1219-4248-B065-CC3EA43D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A7C9-1717-4371-A186-87EAA9A4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746D-B22E-4EAE-AF9E-F5646E04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A84C-DEF1-43DB-AC14-D4A76858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8104-09EB-415C-9FD2-DB78B14E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6A5D-F52B-4557-9EF9-19D0C329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B17C-27C3-4060-8E39-04312AD1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D0FD-F670-4951-9964-36CCA2B8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EDDF-0C40-457A-9238-DD011CB9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F58B-47DC-4655-AE81-ED45BCB9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5AA6-8B6C-4F73-96C1-C28A18D6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B7F5-63F8-4F24-860C-B1B043EE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B45A-078D-4E8D-816B-C0E7C4E8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AC2-A4BB-440A-B1BD-CBD1D80B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A8BF-C79F-467A-BE53-2734B5DB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367-F3B2-4D12-82E9-FBA62E34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AA30-0595-4A1D-AABB-30E8DC84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9BD4-806F-48D9-B1C1-ED9AB823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0668-BB63-4AD4-829C-7B02F0C3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E83D-A945-4A7C-9F05-FA06A5F5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5A82-A68B-4D33-ABF1-E97163FF4896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B181-53B7-4361-B26D-5CF7D6DF9870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Into the Wil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By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on Krakauer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y: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hane Walke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ank Yo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easons why to read this book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ood detail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an see what is going on in your min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an feel the same feelings that the characters ha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ictures for read-aloud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38280" y="990720"/>
            <a:ext cx="5867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601992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14600" y="430200"/>
            <a:ext cx="662940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5:03:33Z</dcterms:created>
  <dc:creator>cysd</dc:creator>
  <dc:description/>
  <dc:language>en-US</dc:language>
  <cp:lastModifiedBy>cysd</cp:lastModifiedBy>
  <dcterms:modified xsi:type="dcterms:W3CDTF">2008-11-21T15:01:25Z</dcterms:modified>
  <cp:revision>4</cp:revision>
  <dc:subject/>
  <dc:title>Into the Wild By: Jon Krakauer</dc:title>
</cp:coreProperties>
</file>